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A56D7-4BD6-4BF0-B56F-AF5AFD3B1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2165400"/>
            <a:ext cx="9069480" cy="2039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99200"/>
            <a:ext cx="9069480" cy="2039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13EC0-AF42-4CD9-9155-440997F98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2165400"/>
            <a:ext cx="4425840" cy="2039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2165400"/>
            <a:ext cx="4425840" cy="2039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99200"/>
            <a:ext cx="4425840" cy="2039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99200"/>
            <a:ext cx="4425840" cy="2039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87A62-126F-407F-BF49-6D58BAB56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2165400"/>
            <a:ext cx="2919960" cy="2039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2165400"/>
            <a:ext cx="2919960" cy="2039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2165400"/>
            <a:ext cx="2919960" cy="2039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99200"/>
            <a:ext cx="2919960" cy="2039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99200"/>
            <a:ext cx="2919960" cy="2039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99200"/>
            <a:ext cx="2919960" cy="2039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EC76B-E77C-41AC-9414-C56E7483B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2165400"/>
            <a:ext cx="906948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88C1B-0CBB-4375-9134-9F9F1E6FA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2165400"/>
            <a:ext cx="906948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4EC95-2FB1-49DB-9BB6-1E66637E7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2165400"/>
            <a:ext cx="442584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2165400"/>
            <a:ext cx="442584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E8F23-9B8A-4342-91FA-7C7CD1687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2373D-E87A-4FCB-99EE-710249D75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2CE6A-90BB-426A-B7C6-60D79F427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2165400"/>
            <a:ext cx="4425840" cy="2039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2165400"/>
            <a:ext cx="442584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99200"/>
            <a:ext cx="4425840" cy="2039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6D9DD-DCF3-4675-9B30-53C5D9FAD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2165400"/>
            <a:ext cx="442584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2165400"/>
            <a:ext cx="4425840" cy="2039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99200"/>
            <a:ext cx="4425840" cy="2039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CB5EB-76BF-4DB1-971E-83B4C0721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2165400"/>
            <a:ext cx="4425840" cy="2039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2165400"/>
            <a:ext cx="4425840" cy="2039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99200"/>
            <a:ext cx="9069480" cy="2039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B68EF-78F4-4FDD-90A1-FCAD97893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2165400"/>
            <a:ext cx="906948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3394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39480" indent="-339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39480" indent="-339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39480" indent="-339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39480" indent="-339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39480" indent="-339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39480" indent="-339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994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994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994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F4CAC4-E549-4CF8-BA1B-2E47DEF822F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The Parson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29920" y="1754280"/>
            <a:ext cx="9070920" cy="48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didn't have much money, but he w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ich in holy thoughts.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believed strongly in practicing what he preach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was moral and humb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Parson Continued...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2165040"/>
            <a:ext cx="907092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diligently took care of his congregation and nothing could stop him from checking on his parishion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had a burden for converting peop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deal Christian pries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turned down an opportunity to make lots of money, because he chose to stay home and care for his peop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7T14:28:01Z</dcterms:created>
  <dc:creator>PCSC</dc:creator>
  <dc:description/>
  <dc:language>en-US</dc:language>
  <cp:lastModifiedBy/>
  <cp:revision>1</cp:revision>
  <dc:subject/>
  <dc:title/>
</cp:coreProperties>
</file>